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AB2-8700-47DB-ACFD-E6A5AC22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796-3B3F-44B8-B08B-60354336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B6F-A9D3-4AA3-A286-36C40FA1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657-C5E7-4C20-A833-E847A6FD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3CA-96E2-4EC0-90CA-F88A8BA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5C5-E007-4435-8430-64B77B9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263-10FF-4703-80B7-4AE737B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0BF-2384-4C16-AAEA-01B7D6F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174-AFEC-44BD-9F12-361DC59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533-48AE-4C3A-86C6-D0FE386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2E6-6537-48B2-8C29-D2AE4134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4B6-6EDA-4BFF-975A-693D262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FFD-E60B-447A-9786-4EB7E8F2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coala186ev@yahoo.com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Magnolia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- observa</a:t>
            </a: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ție fenologică 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60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Octombrie</a:t>
            </a:r>
            <a:r>
              <a:rPr b="0" lang="ro-RO" sz="3200" spc="-1" strike="noStrike">
                <a:solidFill>
                  <a:srgbClr val="66ffff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4040"/>
            <a:ext cx="8458200" cy="915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ŞCOALA CU CLS. I-VIII NR. 186 “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NA VĂCĂRESC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 BUCUREŞ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. Stanislas Cihoschi, nr. 15, sect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n/fax: 021-3163630, e-mail: </a:t>
            </a:r>
            <a:r>
              <a:rPr b="0" lang="it-IT" sz="11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scoala186ev@yahoo.com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ro-R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ite : www.scoala186.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90720" y="228600"/>
            <a:ext cx="799920" cy="1028880"/>
            <a:chOff x="990720" y="228600"/>
            <a:chExt cx="799920" cy="1028880"/>
          </a:xfrm>
        </p:grpSpPr>
        <p:graphicFrame>
          <p:nvGraphicFramePr>
            <p:cNvPr id="47" name=""/>
            <p:cNvGraphicFramePr/>
            <p:nvPr/>
          </p:nvGraphicFramePr>
          <p:xfrm>
            <a:off x="1057320" y="297720"/>
            <a:ext cx="663480" cy="89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57320" y="297720"/>
                      <a:ext cx="66348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062360" y="307080"/>
              <a:ext cx="644400" cy="887400"/>
            </a:xfrm>
            <a:prstGeom prst="ellipse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990720" y="228600"/>
              <a:ext cx="799920" cy="1028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55673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Elena Văcărescu-poetă română de limbă franceză; "Ambasadoarea sufletului românesc în Franţa"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990720" y="1371600"/>
            <a:ext cx="723888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Proiect Comenius Virtual 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bservație: l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actorilor de mediu faţă de luna septemb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bilirea anotimpului pe baza unor informaţii de astr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lorilor şi fructelor faţă de luna septemb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runzelor (numă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bilirea factorilor de mediu ce cauzează căderea frunz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lizarea de fotografii suge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1. Stabilire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ului în care s-au modificat factorii de mediu temperatură, precipitaţii, lumină, viteza vân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bilirea anotimpului prezent pe baza modificării condiţiilor de mediu şi pe baza unor cunoştiinţe de astr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rea culorii frunzelor, a diferenţelor faţă de luna anterioară precum şi a posibilor factori de mediu cau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servarea unor modificări ale fructelor şi florilor în comparaţie cu luna anterio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409920" cy="454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za numărului de frunze de pe o creangă studiată şi compararea cu luna anterio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27680" y="2666880"/>
            <a:ext cx="42163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2860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8762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lizarea de fotografii suges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28:04Z</dcterms:created>
  <dc:creator>Felix</dc:creator>
  <dc:description/>
  <dc:language>en-US</dc:language>
  <cp:lastModifiedBy>Computer 5</cp:lastModifiedBy>
  <dcterms:modified xsi:type="dcterms:W3CDTF">2010-12-07T18:27:40Z</dcterms:modified>
  <cp:revision>7</cp:revision>
  <dc:subject/>
  <dc:title>Slide 1</dc:title>
</cp:coreProperties>
</file>